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5.jpeg" ContentType="image/jpeg"/>
  <Override PartName="/ppt/media/image1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D530-8E33-446F-BC9B-090A0B1A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938-7D41-4CCF-A0E0-F4DA933E2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D7B-A2EE-41CF-9A9D-5E500E47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B38-60CC-465D-887F-21F8422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1B010-77DF-49B4-BF66-6C7E6564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2B01C-2A9A-44C8-B081-A0D7A3A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B8CE-B25D-4D3C-A03B-8D267040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FAB15-F478-4482-845C-9D3243F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C3501-7942-43C1-8BCA-0F69BB52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0BA58-FA73-4ABE-A327-1043767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8DF09-3B02-4080-8B4C-10B0538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3374D-1806-4E0D-9E96-007F43BA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873A-27C0-4B49-94E1-02A05182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48058-A5AA-4777-9A3B-28009869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817-17F3-407E-AC65-8132369E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0DF1-9A0B-40E2-9F0E-26C8661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1A4A4-E42F-4017-9475-5833118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C5E2E-29DA-4482-BD74-2816E5ED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40477-369A-44E1-A17B-F18AF64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CB0C0-E93F-41A9-931A-0992F9C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66B2-0650-4D09-BBD5-62ECD1B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9D83-01A7-4281-AAAA-DCEA5DB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A2B5D-1154-4E5A-A62C-F2EEFE2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B5DF0-99F9-4A1E-8FFB-9000D09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53F51-780F-4222-871F-E69EB300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001-36D5-4B9B-83EC-B5966994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39548-208E-4EF9-9CCE-D943152F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74C5-A2A2-4030-82FC-3BA704E6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7F86D-77BF-44DC-BE22-B6CA9789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7752-2841-4FA2-A3B1-09A0A4EF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DA66-6752-4070-9FF7-8C18AE11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B29A-016F-47E1-BEDA-2A91414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A34C3-530C-49B2-9055-59384800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E8593-AB1F-4884-8BBD-5B05599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D3FAA-4674-4385-9A40-6B4FE9E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38E50-68BB-465D-AFB0-64D6EC0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AB7-2844-44E8-ACC0-87C44637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4C56-4FDD-4490-9F79-9AF7AB78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0878-EAC7-43D0-B1FC-965667E2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EC93-E935-4DC2-869B-DFD5CB3E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FD87D-364F-4DE9-BD45-60F3DEDD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E42CA-B8F6-48E0-991A-3DC8DB31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B268B-3F84-45FF-8917-460744A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19A27-2584-49C8-8057-02E5BDAA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159E7-6BCE-4314-82F0-D1EA937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E05AE-3E71-441A-887F-E6F1061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57133-2DA9-400F-BD02-8BB76EE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F89-159C-4255-9376-027F9FAF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68DE9-3DC6-463E-9D90-F7B44FBC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841D-C690-41EC-A630-0ED9DA9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43475-4C6A-4BD2-BE6D-6DAE8CF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DCB7B-5D6B-4CA2-87B9-E24E5454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A6FAA-C027-4E3C-992C-7865C63F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F1A77-5772-4000-B382-86016F4D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E2EA0-E4B3-43D3-95D9-8ABE167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EDF33-92DA-4001-B46B-AB126DD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D34BA-6B7F-4BF9-9B31-E634351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67D99-CCBA-4AF6-8E22-BD8D457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BA2F-402F-4E16-9AD9-3A3DED5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A33F-1CA8-4431-9046-0FBD97C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78C74-7711-449E-992C-AB170A7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58CBD-9879-49F9-9F8C-2AFFC6F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706D8-7D88-4F3B-9A66-7FE9C17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984BA-7F1F-4A30-802F-C221839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F3B19-16AC-428C-9757-604839C6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104F4-5B34-4AF5-B4A2-CD0E3F30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2F21F-2F84-41AF-8994-C1AFDE9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1B7A6-BACD-4D56-9B4E-A38F525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06C0D-512F-49D2-88D7-2F1D687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DF62-83AA-4883-A5D6-71E2312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01BE0-80DC-4DD9-98FB-D11592B1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28A83-8A91-4578-AB7D-5D3C9A0C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7E52C-FC85-4DC4-8C74-5A75E17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933E4-8E91-4506-847E-EBC9F40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CEAE1-3465-406A-95A8-3CBC44C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C1DD6-C4FF-4ACE-BC34-E48F528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B9E24-E193-429F-AEE6-321E6A1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45D18-806D-4599-A8D6-7B7CA1C6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4C511-6800-4372-AC1A-5CBD2D56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066BF-E796-432F-9280-6FD4F225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811-E7E6-4B74-A18F-5A18782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5E7D7-A029-4207-A9D1-A5A5942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95C8C-19AC-4A6B-9D5C-D2F4F78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38580-2EFD-4686-A78C-379891DC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6F90A-B8E1-4C83-A1F0-4287BDC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1164B-6CAB-44D1-BFB2-83C7653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E8C47-89AE-4072-82B6-892B905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A79D7-3A3A-46C8-B703-992178A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480BE-999C-499D-BAE1-95B9D6A1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91787-97E7-46D1-A0EA-AE36EB02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3530E-54B5-4480-9184-02AFB8C4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9B09-75F3-4280-82D3-9FE5D9C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15014-1732-418D-B869-5B535567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F628-5CE0-4DFF-AFEE-FE16C28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F36-DA6F-4A3A-9304-D7408E7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FF2-9C26-4F4C-A6A9-D7279C9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8CCC-7125-4E97-9812-9495268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8E2-817B-428C-8CEB-9775FC1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77B-FEE5-4A71-A626-CB802ECA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32E6-3344-40DC-B2EF-9272F67C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CE25-13FF-4BFD-858C-5B78E020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701D-2615-49D2-B054-E302700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8AD1-406D-4CA1-8957-06AD780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9152-43A0-4AE6-9F91-585416FE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A085-8404-4932-9CED-31B6F247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3E5-CF61-47EF-9F40-E9CAC1ED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498E-AEDC-4D44-91CD-71E7F6F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BC0B-EE35-49F5-B286-1A889DB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4FE9-D149-4219-983A-9FC69FD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8D34-8025-4A8E-B292-19270FB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B565-974F-4D61-A3AC-9F2BC72C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5458-D4CA-4C1C-A9C8-97339415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DF84-3345-43F6-8117-9641E494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F05F-B377-47BD-B6D4-AC2EDD88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4C1D-4A01-41DF-80A5-0ED4C954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5345-F53D-49A0-A008-F7D94D01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D38-2F3A-4FC4-8F04-BE4E485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29B9-84CD-457A-B8A8-E7FEB52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F252-B132-4636-92F4-D87DB081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45BE-AC05-49A5-BC04-D24109E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8F2D-C049-4686-89BB-F484BED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60EF-03E2-4E7A-9734-C8829F4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7036-9421-4CE1-84D1-04D20589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9ED9-F9D1-4A1F-98C6-5FBE19C0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9EAF-9487-4057-A638-A2355C2E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8EEB-3796-4B88-815B-9FB855FE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A091-25AB-440F-A74C-0F3FC637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EA3-48AE-4F88-A600-E355658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FDEB-EBAE-440B-B431-AB1A4A6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432A-5368-43D4-8E43-075D429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3D42-842D-4E11-9595-8F19423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A9D0-7BC7-4E78-9DAD-FD8F65C8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6515-A488-4BF5-9906-932B989B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DAF2-3E28-433C-B710-DD57A6A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3CB3-E81F-4DBB-95D8-87C5499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4487-BA70-4B13-9862-471853D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8EF2-038A-42B3-A265-CBC166C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8A8A-D68E-4EF4-8410-DAAEE0CE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F03-3FE9-4F4E-A8EB-D8ADFC1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9136-28F5-4493-BC74-00D3747C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9D3A-8FEB-43DF-AC9D-16B0D779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6821-1285-4E4C-AA30-0F41F363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10BC-CA91-4B56-B8B2-5A3C1807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A60E-8002-48F6-A751-B81E533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64BD-FED7-4FDB-84E7-3E166C7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652E-65D0-4DF6-A807-798039D4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1C3C-AC0F-4BBB-B757-545952B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4347-EA39-47D7-BBA1-6FA103E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444A-B4CD-4713-B9BD-501AA83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C19-AC97-49C5-A8A3-548B2E9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1E70-696B-42CC-9658-B9CD3B11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3D8F-DF99-4469-9A5A-C3C6322F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B1BB-09FE-4446-BA05-F78C889D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C63D-E208-4C63-A48C-9E0DA0FF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63E6-538F-4B0F-A984-893A95B8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1667-C421-4065-BF32-8FE1E3E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5F62-9C63-4894-B673-72163C83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0D4BD-FED5-412C-B387-638D4757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6EE1-CA4E-4DB0-88C9-8158EF88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AF583-9C10-48EC-BDDC-2C74344F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D3A-292D-418D-B805-8D06FB8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CB0F-2137-4C74-9C19-B837FE1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D839-00BD-4B39-8B98-BCFAD34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AAB6-DAE4-4C04-9E6C-DDE0DC49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8DD23-D748-4817-8782-9154EA47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2833-D80D-41F7-BF76-80065DE2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0A650-F386-4790-8608-75C41BA7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6C78E-D1E3-495A-8A23-CDBDE78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E240-55A0-4B1E-B82C-654E693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66D58-BA1B-4F80-A484-F6C7341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F86A-9264-41C9-A602-EF5B109C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437-8203-48AC-8177-1FE9EDE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E4BE-77B7-4667-934A-38124A6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B4D7-EC3B-4338-9804-45FBA97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3210-9F38-4F55-B376-9914873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9FD4F-53B3-40FC-BA18-5312B25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71AC-FE52-4E03-97E2-12F2D5B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56915-9A0C-4634-A33D-A1C55F14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CE60-7DF8-4570-927B-CA42C471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0B8C1-F723-43D9-81DA-705A9818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3AA0C-AD67-4D74-BC07-AEFEBC4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6AFC4-F5ED-44CE-B387-F8315C00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38B7-404D-4E08-909D-FA36350401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8D2-B0A7-4F9C-A3D6-F902707435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78D7-97E0-4DD7-B40A-E3B7AA720D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9E6-245F-4D1A-918D-55C3E65B79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B6F-0551-4276-A158-BDD1753A2F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A36-274F-4DB2-AC27-CF8074866D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ED67-416F-4FF6-A678-FDAD9389D4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912-C2F8-464C-9A61-55262901AF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36CE-8CA9-464C-9DEF-D21194BF64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175-F33A-4105-97DE-AE2F9EDFA1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89E-A7AA-4CEA-8531-CB30581746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56F5-CFDB-4992-9ACF-77A0510928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CBB-365F-497C-A5C8-B99C37AAF8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3A1-8A9A-47F8-9F63-661CFD7ACC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58B-02FE-4FFB-AFEB-29BE4F1675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"/>
          <p:cNvSpPr/>
          <p:nvPr/>
        </p:nvSpPr>
        <p:spPr>
          <a:xfrm>
            <a:off x="182520" y="1268280"/>
            <a:ext cx="828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99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% пр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3"/>
              <p:cNvSpPr txBox="1"/>
              <p:nvPr/>
            </p:nvSpPr>
            <p:spPr>
              <a:xfrm>
                <a:off x="182520" y="2997360"/>
                <a:ext cx="871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-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4"/>
              <p:cNvSpPr txBox="1"/>
              <p:nvPr/>
            </p:nvSpPr>
            <p:spPr>
              <a:xfrm>
                <a:off x="182520" y="1987560"/>
                <a:ext cx="5302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1371600" y="4508640"/>
                <a:ext cx="4681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182520" y="126828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"/>
              <p:cNvSpPr txBox="1"/>
              <p:nvPr/>
            </p:nvSpPr>
            <p:spPr>
              <a:xfrm>
                <a:off x="4754520" y="4389480"/>
                <a:ext cx="3154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5" name="Rectangle 4"/>
          <p:cNvSpPr/>
          <p:nvPr/>
        </p:nvSpPr>
        <p:spPr>
          <a:xfrm>
            <a:off x="182520" y="3017880"/>
            <a:ext cx="4341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4754520" y="2743200"/>
          <a:ext cx="33577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743200"/>
                    <a:ext cx="3357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Rectangle 4"/>
          <p:cNvSpPr/>
          <p:nvPr/>
        </p:nvSpPr>
        <p:spPr>
          <a:xfrm>
            <a:off x="182520" y="457200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4754520" y="53942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4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7"/>
          <p:cNvSpPr/>
          <p:nvPr/>
        </p:nvSpPr>
        <p:spPr>
          <a:xfrm>
            <a:off x="177120" y="374976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</a:t>
            </a:r>
            <a:r>
              <a:rPr b="0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sr-CS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204120" y="2560680"/>
            <a:ext cx="437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ем случају редокс 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"/>
          <p:cNvSpPr/>
          <p:nvPr/>
        </p:nvSpPr>
        <p:spPr>
          <a:xfrm>
            <a:off x="250920" y="100656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јона 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7"/>
              <p:cNvSpPr txBox="1"/>
              <p:nvPr/>
            </p:nvSpPr>
            <p:spPr>
              <a:xfrm>
                <a:off x="1371600" y="2468520"/>
                <a:ext cx="41893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Rectangle 4"/>
          <p:cNvSpPr/>
          <p:nvPr/>
        </p:nvSpPr>
        <p:spPr>
          <a:xfrm>
            <a:off x="182520" y="21067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осл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6"/>
              <p:cNvSpPr txBox="1"/>
              <p:nvPr/>
            </p:nvSpPr>
            <p:spPr>
              <a:xfrm>
                <a:off x="182520" y="3565440"/>
                <a:ext cx="8852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7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8"/>
              <p:cNvSpPr txBox="1"/>
              <p:nvPr/>
            </p:nvSpPr>
            <p:spPr>
              <a:xfrm>
                <a:off x="1371600" y="5211720"/>
                <a:ext cx="4498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3"/>
          <p:cNvSpPr/>
          <p:nvPr/>
        </p:nvSpPr>
        <p:spPr>
          <a:xfrm>
            <a:off x="182520" y="603576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је погодније израчунати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49480" y="2286000"/>
            <a:ext cx="5040360" cy="259380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2"/>
          <p:cNvSpPr/>
          <p:nvPr/>
        </p:nvSpPr>
        <p:spPr>
          <a:xfrm>
            <a:off x="182520" y="5121360"/>
            <a:ext cx="864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 је нагла промена електродног потенцијала, ЗТТ се лако одређује, велика константа равнот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је симетрична око ТЕ (исти молски однос реактана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идентичнана и за разблажене  и за концентроване растворе, значи електродни потенцијал не зависи од разблажења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182520" y="1268280"/>
            <a:ext cx="83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0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0,01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"/>
          <p:cNvSpPr/>
          <p:nvPr/>
        </p:nvSpPr>
        <p:spPr>
          <a:xfrm>
            <a:off x="208080" y="11095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различитим бројем електрона у једначинама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208080" y="2774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500 mol/L стандардним 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1000 mol/L, у раствору HCl (c =1 mol/L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231840" y="2354400"/>
            <a:ext cx="54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Sn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тандардним раствором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371600" y="4508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1371600" y="5589720"/>
                <a:ext cx="5803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"/>
              <p:cNvSpPr txBox="1"/>
              <p:nvPr/>
            </p:nvSpPr>
            <p:spPr>
              <a:xfrm>
                <a:off x="6400800" y="4051440"/>
                <a:ext cx="2362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4"/>
              <p:cNvSpPr txBox="1"/>
              <p:nvPr/>
            </p:nvSpPr>
            <p:spPr>
              <a:xfrm>
                <a:off x="6400800" y="4648320"/>
                <a:ext cx="251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182520" y="241128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7"/>
              <p:cNvSpPr txBox="1"/>
              <p:nvPr/>
            </p:nvSpPr>
            <p:spPr>
              <a:xfrm>
                <a:off x="1371600" y="4754520"/>
                <a:ext cx="4216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S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1" name="Rectangle 7"/>
          <p:cNvSpPr/>
          <p:nvPr/>
        </p:nvSpPr>
        <p:spPr>
          <a:xfrm>
            <a:off x="182520" y="1268280"/>
            <a:ext cx="6551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1371600" y="3932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182520" y="594360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1"/>
          <p:cNvSpPr/>
          <p:nvPr/>
        </p:nvSpPr>
        <p:spPr>
          <a:xfrm>
            <a:off x="182520" y="1463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2"/>
              <p:cNvSpPr txBox="1"/>
              <p:nvPr/>
            </p:nvSpPr>
            <p:spPr>
              <a:xfrm>
                <a:off x="184320" y="3108240"/>
                <a:ext cx="635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84320" y="2103480"/>
                <a:ext cx="895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mol/L -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7"/>
              <p:cNvSpPr txBox="1"/>
              <p:nvPr/>
            </p:nvSpPr>
            <p:spPr>
              <a:xfrm>
                <a:off x="1371600" y="4297320"/>
                <a:ext cx="5054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TextBox 5"/>
          <p:cNvSpPr/>
          <p:nvPr/>
        </p:nvSpPr>
        <p:spPr>
          <a:xfrm>
            <a:off x="209520" y="557856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82520" y="104940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7"/>
              <p:cNvSpPr txBox="1"/>
              <p:nvPr/>
            </p:nvSpPr>
            <p:spPr>
              <a:xfrm>
                <a:off x="1371600" y="3657600"/>
                <a:ext cx="336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1" name="Rectangle 4"/>
          <p:cNvSpPr/>
          <p:nvPr/>
        </p:nvSpPr>
        <p:spPr>
          <a:xfrm>
            <a:off x="1371600" y="30178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371600" y="4754520"/>
                <a:ext cx="3833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3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03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TextBox 6"/>
          <p:cNvSpPr/>
          <p:nvPr/>
        </p:nvSpPr>
        <p:spPr>
          <a:xfrm>
            <a:off x="182520" y="23493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182520" y="585144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је ближи стандардном редокс потенцијалу редокс пара који у својој полуреакцији размењује већи број електро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182520" y="90792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7"/>
              <p:cNvSpPr txBox="1"/>
              <p:nvPr/>
            </p:nvSpPr>
            <p:spPr>
              <a:xfrm>
                <a:off x="1371600" y="2286000"/>
                <a:ext cx="4000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5"/>
              <p:cNvSpPr txBox="1"/>
              <p:nvPr/>
            </p:nvSpPr>
            <p:spPr>
              <a:xfrm>
                <a:off x="182520" y="3475080"/>
                <a:ext cx="8664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6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TextBox 7"/>
          <p:cNvSpPr/>
          <p:nvPr/>
        </p:nvSpPr>
        <p:spPr>
          <a:xfrm>
            <a:off x="182520" y="191772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o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ачке еквиваленциј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8"/>
              <p:cNvSpPr txBox="1"/>
              <p:nvPr/>
            </p:nvSpPr>
            <p:spPr>
              <a:xfrm>
                <a:off x="1371600" y="5211720"/>
                <a:ext cx="5376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3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,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5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2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Rectangle 3"/>
          <p:cNvSpPr/>
          <p:nvPr/>
        </p:nvSpPr>
        <p:spPr>
          <a:xfrm>
            <a:off x="182520" y="6218280"/>
            <a:ext cx="86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82520" y="558972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већањем разлике у броју електрона који се појављују у две полуреакције титрациона крива је све мање симетрич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182520" y="1268280"/>
            <a:ext cx="888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05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6"/>
          <p:cNvGrpSpPr/>
          <p:nvPr/>
        </p:nvGrpSpPr>
        <p:grpSpPr>
          <a:xfrm>
            <a:off x="1332000" y="2301840"/>
            <a:ext cx="6107040" cy="3024360"/>
            <a:chOff x="1332000" y="2301840"/>
            <a:chExt cx="6107040" cy="3024360"/>
          </a:xfrm>
        </p:grpSpPr>
        <p:pic>
          <p:nvPicPr>
            <p:cNvPr id="855" name="Picture 5" descr="C:\Users\Maca\Desktop\I ned AH\redoks1.png"/>
            <p:cNvPicPr/>
            <p:nvPr/>
          </p:nvPicPr>
          <p:blipFill>
            <a:blip r:embed="rId1"/>
            <a:stretch/>
          </p:blipFill>
          <p:spPr>
            <a:xfrm>
              <a:off x="1332000" y="2301840"/>
              <a:ext cx="61070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Box 4"/>
            <p:cNvSpPr/>
            <p:nvPr/>
          </p:nvSpPr>
          <p:spPr>
            <a:xfrm>
              <a:off x="3852360" y="265248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3+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/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"/>
          <p:cNvSpPr/>
          <p:nvPr/>
        </p:nvSpPr>
        <p:spPr>
          <a:xfrm>
            <a:off x="182520" y="2349360"/>
            <a:ext cx="8710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оксидо-редукц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волуметријске методе које се заснива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докс реакција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оксидо-редукционих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елемената се може појављивати у више оксидационих ст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андардних раствора реагенаса је већи него код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 проширује додатком комплексирајућих супстанци, кој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м комплекса могу мењати електродни потенцијал титрован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реагенса, чиме реакција постаје бржа и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"/>
          <p:cNvSpPr/>
          <p:nvPr/>
        </p:nvSpPr>
        <p:spPr>
          <a:xfrm>
            <a:off x="355680" y="10047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е заснован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о-редукционим реакц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1025640" y="1003320"/>
            <a:ext cx="69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код којих се у једначинама полуреакција појављују вода и њени ј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182520" y="2198520"/>
            <a:ext cx="5765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Mn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189080" y="411480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7"/>
              <p:cNvSpPr txBox="1"/>
              <p:nvPr/>
            </p:nvSpPr>
            <p:spPr>
              <a:xfrm>
                <a:off x="1189080" y="5792760"/>
                <a:ext cx="6405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O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4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Rectangle 1"/>
          <p:cNvSpPr/>
          <p:nvPr/>
        </p:nvSpPr>
        <p:spPr>
          <a:xfrm>
            <a:off x="182520" y="2558880"/>
            <a:ext cx="8640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0,100 mol/L стандардним раствором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2000 mol/L у киселој средини [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1 mol/L (pH=0,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6400800" y="5143680"/>
                <a:ext cx="24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4"/>
              <p:cNvSpPr txBox="1"/>
              <p:nvPr/>
            </p:nvSpPr>
            <p:spPr>
              <a:xfrm>
                <a:off x="6400800" y="45975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182520" y="23493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 еквивалент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7"/>
              <p:cNvSpPr txBox="1"/>
              <p:nvPr/>
            </p:nvSpPr>
            <p:spPr>
              <a:xfrm>
                <a:off x="1371600" y="4754520"/>
                <a:ext cx="445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6" name="Rectangle 3"/>
          <p:cNvSpPr/>
          <p:nvPr/>
        </p:nvSpPr>
        <p:spPr>
          <a:xfrm>
            <a:off x="1371600" y="393228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82520" y="1268280"/>
            <a:ext cx="8709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82520" y="60357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9" name="Object 2"/>
              <p:cNvSpPr txBox="1"/>
              <p:nvPr/>
            </p:nvSpPr>
            <p:spPr>
              <a:xfrm>
                <a:off x="182520" y="3067200"/>
                <a:ext cx="6230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3"/>
              <p:cNvSpPr txBox="1"/>
              <p:nvPr/>
            </p:nvSpPr>
            <p:spPr>
              <a:xfrm>
                <a:off x="182520" y="1924200"/>
                <a:ext cx="8794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5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TextBox 3"/>
          <p:cNvSpPr/>
          <p:nvPr/>
        </p:nvSpPr>
        <p:spPr>
          <a:xfrm>
            <a:off x="246240" y="1268280"/>
            <a:ext cx="5046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1371600" y="4508640"/>
                <a:ext cx="5535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TextBox 5"/>
          <p:cNvSpPr/>
          <p:nvPr/>
        </p:nvSpPr>
        <p:spPr>
          <a:xfrm>
            <a:off x="209520" y="576108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1"/>
          <p:cNvSpPr/>
          <p:nvPr/>
        </p:nvSpPr>
        <p:spPr>
          <a:xfrm>
            <a:off x="250920" y="1241280"/>
            <a:ext cx="86421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7"/>
              <p:cNvSpPr txBox="1"/>
              <p:nvPr/>
            </p:nvSpPr>
            <p:spPr>
              <a:xfrm>
                <a:off x="1371600" y="4065480"/>
                <a:ext cx="5757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4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M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6" name="Rectangle 3"/>
          <p:cNvSpPr/>
          <p:nvPr/>
        </p:nvSpPr>
        <p:spPr>
          <a:xfrm>
            <a:off x="1371600" y="3068640"/>
            <a:ext cx="61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4"/>
          <p:cNvGraphicFramePr/>
          <p:nvPr/>
        </p:nvGraphicFramePr>
        <p:xfrm>
          <a:off x="1371600" y="5211720"/>
          <a:ext cx="4956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211720"/>
                    <a:ext cx="4956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Box 5"/>
          <p:cNvSpPr/>
          <p:nvPr/>
        </p:nvSpPr>
        <p:spPr>
          <a:xfrm>
            <a:off x="250920" y="2573280"/>
            <a:ext cx="499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Object 7"/>
          <p:cNvGraphicFramePr/>
          <p:nvPr/>
        </p:nvGraphicFramePr>
        <p:xfrm>
          <a:off x="7581960" y="5394240"/>
          <a:ext cx="8175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1960" y="5394240"/>
                    <a:ext cx="817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7"/>
          <p:cNvSpPr/>
          <p:nvPr/>
        </p:nvSpPr>
        <p:spPr>
          <a:xfrm>
            <a:off x="182520" y="603576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зависи и од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 односно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"/>
          <p:cNvSpPr/>
          <p:nvPr/>
        </p:nvSpPr>
        <p:spPr>
          <a:xfrm>
            <a:off x="182520" y="10065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7"/>
              <p:cNvSpPr txBox="1"/>
              <p:nvPr/>
            </p:nvSpPr>
            <p:spPr>
              <a:xfrm>
                <a:off x="1371600" y="2560680"/>
                <a:ext cx="60008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5" name="TextBox 4"/>
          <p:cNvSpPr/>
          <p:nvPr/>
        </p:nvSpPr>
        <p:spPr>
          <a:xfrm>
            <a:off x="182520" y="2103480"/>
            <a:ext cx="5099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4"/>
              <p:cNvSpPr txBox="1"/>
              <p:nvPr/>
            </p:nvSpPr>
            <p:spPr>
              <a:xfrm>
                <a:off x="182520" y="3475080"/>
                <a:ext cx="88232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1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 mol/L  - 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5"/>
              <p:cNvSpPr txBox="1"/>
              <p:nvPr/>
            </p:nvSpPr>
            <p:spPr>
              <a:xfrm>
                <a:off x="182520" y="4479840"/>
                <a:ext cx="5497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6"/>
              <p:cNvSpPr txBox="1"/>
              <p:nvPr/>
            </p:nvSpPr>
            <p:spPr>
              <a:xfrm>
                <a:off x="182520" y="5303880"/>
                <a:ext cx="57564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1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47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Rectangle 3"/>
          <p:cNvSpPr/>
          <p:nvPr/>
        </p:nvSpPr>
        <p:spPr>
          <a:xfrm>
            <a:off x="182520" y="6218280"/>
            <a:ext cx="864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n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759280" cy="28386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130320" y="1440000"/>
            <a:ext cx="8885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100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K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2000 mol/L) при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182520" y="5943600"/>
            <a:ext cx="871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 и померена је ка редокс пару који учествује са већим бројем електр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1"/>
          <p:cNvSpPr/>
          <p:nvPr/>
        </p:nvSpPr>
        <p:spPr>
          <a:xfrm>
            <a:off x="611280" y="12081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где један молекул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 реактаната даје два или више молекул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производа реакције и обрну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1371600" y="3557520"/>
            <a:ext cx="588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468520" y="4290840"/>
            <a:ext cx="30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e-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"/>
          <p:cNvSpPr/>
          <p:nvPr/>
        </p:nvSpPr>
        <p:spPr>
          <a:xfrm>
            <a:off x="182520" y="522936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но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укованог облика у Нернстовој једначини имају различите експоненте, па електродни потенцијали зависе од разблажењ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82520" y="2708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e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дихроматом, тиосулфатом, јодом, бромом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1371600" y="1920960"/>
            <a:ext cx="68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5"/>
              <p:cNvSpPr txBox="1"/>
              <p:nvPr/>
            </p:nvSpPr>
            <p:spPr>
              <a:xfrm>
                <a:off x="1371600" y="2468520"/>
                <a:ext cx="36226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7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2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0" name="Rectangle 2"/>
          <p:cNvSpPr/>
          <p:nvPr/>
        </p:nvSpPr>
        <p:spPr>
          <a:xfrm>
            <a:off x="182520" y="1006560"/>
            <a:ext cx="594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Cr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200160" y="1463760"/>
            <a:ext cx="38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457200" y="3565440"/>
            <a:ext cx="159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7"/>
              <p:cNvSpPr txBox="1"/>
              <p:nvPr/>
            </p:nvSpPr>
            <p:spPr>
              <a:xfrm>
                <a:off x="457200" y="3932280"/>
                <a:ext cx="394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4" name="TextBox 10"/>
          <p:cNvSpPr/>
          <p:nvPr/>
        </p:nvSpPr>
        <p:spPr>
          <a:xfrm>
            <a:off x="197640" y="31082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внотежи (на ТЕ) електродни потенцијали редокс паров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јед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3"/>
              <p:cNvSpPr txBox="1"/>
              <p:nvPr/>
            </p:nvSpPr>
            <p:spPr>
              <a:xfrm>
                <a:off x="457200" y="4846680"/>
                <a:ext cx="5665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4"/>
              <p:cNvSpPr txBox="1"/>
              <p:nvPr/>
            </p:nvSpPr>
            <p:spPr>
              <a:xfrm>
                <a:off x="457200" y="5761080"/>
                <a:ext cx="5751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5"/>
          <p:cNvSpPr/>
          <p:nvPr/>
        </p:nvSpPr>
        <p:spPr>
          <a:xfrm>
            <a:off x="182520" y="162720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ирањем има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8" name="Object 6"/>
          <p:cNvGraphicFramePr/>
          <p:nvPr/>
        </p:nvGraphicFramePr>
        <p:xfrm>
          <a:off x="457200" y="2084400"/>
          <a:ext cx="68803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84400"/>
                    <a:ext cx="68803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Box 7"/>
          <p:cNvSpPr/>
          <p:nvPr/>
        </p:nvSpPr>
        <p:spPr>
          <a:xfrm>
            <a:off x="186480" y="27432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Object 7"/>
          <p:cNvGraphicFramePr/>
          <p:nvPr/>
        </p:nvGraphicFramePr>
        <p:xfrm>
          <a:off x="457200" y="3108240"/>
          <a:ext cx="20685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08240"/>
                    <a:ext cx="2068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TextBox 9"/>
          <p:cNvSpPr/>
          <p:nvPr/>
        </p:nvSpPr>
        <p:spPr>
          <a:xfrm>
            <a:off x="2775240" y="3068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Object 8"/>
          <p:cNvGraphicFramePr/>
          <p:nvPr/>
        </p:nvGraphicFramePr>
        <p:xfrm>
          <a:off x="3490920" y="3108240"/>
          <a:ext cx="24541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3108240"/>
                    <a:ext cx="245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Box 11"/>
          <p:cNvSpPr/>
          <p:nvPr/>
        </p:nvSpPr>
        <p:spPr>
          <a:xfrm>
            <a:off x="184680" y="378936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ом у горњој једначини добиј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9"/>
          <p:cNvGraphicFramePr/>
          <p:nvPr/>
        </p:nvGraphicFramePr>
        <p:xfrm>
          <a:off x="457200" y="4149720"/>
          <a:ext cx="766296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49720"/>
                    <a:ext cx="76629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0"/>
          <p:cNvGraphicFramePr/>
          <p:nvPr/>
        </p:nvGraphicFramePr>
        <p:xfrm>
          <a:off x="457200" y="5211720"/>
          <a:ext cx="5857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211720"/>
                    <a:ext cx="5857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TextBox 14"/>
          <p:cNvSpPr/>
          <p:nvPr/>
        </p:nvSpPr>
        <p:spPr>
          <a:xfrm>
            <a:off x="232920" y="6126120"/>
            <a:ext cx="73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зависи од концентрације реагенса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1"/>
          <p:cNvSpPr/>
          <p:nvPr/>
        </p:nvSpPr>
        <p:spPr>
          <a:xfrm>
            <a:off x="1403640" y="1017720"/>
            <a:ext cx="64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завршне тачке ти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 редокс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"/>
          <p:cNvSpPr/>
          <p:nvPr/>
        </p:nvSpPr>
        <p:spPr>
          <a:xfrm>
            <a:off x="182520" y="2193840"/>
            <a:ext cx="896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а тачка титрације код редокс титрација се може одред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 редокс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ом специфичних индикатора (супстанце које реагују само са једним обликом редокс пара; пример: скроб као индикатор, код титрација са јод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ндикацијом (пример: калијум-перманганат као титрационо средство и индика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182520" y="1828800"/>
            <a:ext cx="871056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едокс титрација на титрационој кривој се приказује зависност електродног потенцијала од запремине додатог титрационог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разлога за 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лектродни потенцијал је логаритамска функција концентрација супстанци које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оришћење електродних потенцијала олакшава избор редокс-индикатора (индикатори су у овом случају сами редокс парови који реагују на промену потенцијала систе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д инструменталних метода за одређивање ЗТТ редокс титрација се ме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систем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од остал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тријских метода, на ординату се може наносити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 логаритам концентрације титрован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"/>
          <p:cNvSpPr/>
          <p:nvPr/>
        </p:nvSpPr>
        <p:spPr>
          <a:xfrm>
            <a:off x="2930400" y="105876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оне кр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"/>
          <p:cNvSpPr/>
          <p:nvPr/>
        </p:nvSpPr>
        <p:spPr>
          <a:xfrm>
            <a:off x="182520" y="1646280"/>
            <a:ext cx="8710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индикато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ске супстанце које се понашају као слаба оксидациона или редукциона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оксидованог и редукованог облика је различ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се мења у зависности од електродног потенцијал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"/>
          <p:cNvSpPr/>
          <p:nvPr/>
        </p:nvSpPr>
        <p:spPr>
          <a:xfrm>
            <a:off x="2772360" y="110484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окс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71600" y="3200400"/>
            <a:ext cx="6605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z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384200" y="3565440"/>
            <a:ext cx="30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1                     боја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1412280" y="4022640"/>
            <a:ext cx="647316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ксид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дук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ндардни електродни потенцијал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8"/>
          <p:cNvSpPr/>
          <p:nvPr/>
        </p:nvSpPr>
        <p:spPr>
          <a:xfrm>
            <a:off x="182520" y="5211720"/>
            <a:ext cx="582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верзибилне индикаторске полу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7"/>
              <p:cNvSpPr txBox="1"/>
              <p:nvPr/>
            </p:nvSpPr>
            <p:spPr>
              <a:xfrm>
                <a:off x="1371600" y="5761080"/>
                <a:ext cx="3292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186480" y="109692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3"/>
              <p:cNvSpPr txBox="1"/>
              <p:nvPr/>
            </p:nvSpPr>
            <p:spPr>
              <a:xfrm>
                <a:off x="1371600" y="2743200"/>
                <a:ext cx="17683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4"/>
              <p:cNvSpPr txBox="1"/>
              <p:nvPr/>
            </p:nvSpPr>
            <p:spPr>
              <a:xfrm>
                <a:off x="4695840" y="2743200"/>
                <a:ext cx="1833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Rectangle 5"/>
          <p:cNvSpPr/>
          <p:nvPr/>
        </p:nvSpPr>
        <p:spPr>
          <a:xfrm>
            <a:off x="182520" y="5121360"/>
            <a:ext cx="39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5"/>
              <p:cNvSpPr txBox="1"/>
              <p:nvPr/>
            </p:nvSpPr>
            <p:spPr>
              <a:xfrm>
                <a:off x="4114800" y="4892760"/>
                <a:ext cx="3454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6" name="TextBox 9"/>
          <p:cNvSpPr/>
          <p:nvPr/>
        </p:nvSpPr>
        <p:spPr>
          <a:xfrm>
            <a:off x="179280" y="16462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индикатора се мења када се однос концентрација оксидованог и редукованог облика индикатора промени 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0"/>
          <p:cNvSpPr/>
          <p:nvPr/>
        </p:nvSpPr>
        <p:spPr>
          <a:xfrm>
            <a:off x="3668760" y="3017880"/>
            <a:ext cx="5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182520" y="5851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електродни потенцијал индикатора треба да буде близак електродном потенцијалу на тачки еквивален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9"/>
          <p:cNvSpPr/>
          <p:nvPr/>
        </p:nvSpPr>
        <p:spPr>
          <a:xfrm>
            <a:off x="182520" y="411480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једног облика индикатора мора бити 10 пута већа од концентрације другог облика индикатора, да би се уочила визуелна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182520" y="1279440"/>
            <a:ext cx="871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двобојног редокс индикатор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ин (1,10-фенантролин Fe (II)сулфат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светл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црвене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6" descr=""/>
          <p:cNvPicPr/>
          <p:nvPr/>
        </p:nvPicPr>
        <p:blipFill>
          <a:blip r:embed="rId1"/>
          <a:srcRect l="0" t="0" r="45759" b="0"/>
          <a:stretch/>
        </p:blipFill>
        <p:spPr>
          <a:xfrm>
            <a:off x="457200" y="2895480"/>
            <a:ext cx="2238480" cy="29448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7"/>
          <p:cNvSpPr/>
          <p:nvPr/>
        </p:nvSpPr>
        <p:spPr>
          <a:xfrm>
            <a:off x="4206960" y="2895480"/>
            <a:ext cx="3959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ветло пл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8"/>
          <p:cNvSpPr/>
          <p:nvPr/>
        </p:nvSpPr>
        <p:spPr>
          <a:xfrm>
            <a:off x="633240" y="5950080"/>
            <a:ext cx="139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230720" y="390528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5"/>
              <p:cNvSpPr txBox="1"/>
              <p:nvPr/>
            </p:nvSpPr>
            <p:spPr>
              <a:xfrm>
                <a:off x="4206960" y="5303880"/>
                <a:ext cx="3914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6" name="Rectangle 11"/>
          <p:cNvSpPr/>
          <p:nvPr/>
        </p:nvSpPr>
        <p:spPr>
          <a:xfrm>
            <a:off x="4216320" y="46641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12"/>
          <p:cNvSpPr/>
          <p:nvPr/>
        </p:nvSpPr>
        <p:spPr>
          <a:xfrm>
            <a:off x="4224960" y="5943600"/>
            <a:ext cx="4749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за титрацију Fe(II) раствором Ce(I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"/>
          <p:cNvSpPr/>
          <p:nvPr/>
        </p:nvSpPr>
        <p:spPr>
          <a:xfrm>
            <a:off x="190080" y="1279440"/>
            <a:ext cx="305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182520" y="3932280"/>
            <a:ext cx="8642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купна концентрација индикатора у раствор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инимална концентрација обојеног облика неопходна де се         примети обојеност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7"/>
              <p:cNvSpPr txBox="1"/>
              <p:nvPr/>
            </p:nvSpPr>
            <p:spPr>
              <a:xfrm>
                <a:off x="1371600" y="2651040"/>
                <a:ext cx="45036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1" name="TextBox 9"/>
          <p:cNvSpPr/>
          <p:nvPr/>
        </p:nvSpPr>
        <p:spPr>
          <a:xfrm>
            <a:off x="179280" y="192096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једнобојних индикатора се уочава када важ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"/>
          <p:cNvSpPr/>
          <p:nvPr/>
        </p:nvSpPr>
        <p:spPr>
          <a:xfrm>
            <a:off x="179280" y="53942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фениламин, дифенилбензидин, метиленско пл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"/>
          <p:cNvSpPr/>
          <p:nvPr/>
        </p:nvSpPr>
        <p:spPr>
          <a:xfrm>
            <a:off x="182520" y="11890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једнобојног редокс индикатора: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ениламин сулфонска киселина (најчешће у облику со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љубичаст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безбој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3590280" y="292572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82520" y="457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титрација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раствором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24 V при pH = 0,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III) који настају у току титрације се комплексирају са фосфорном киселином, чиме се смањује                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име и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6128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7" name="Object 8"/>
              <p:cNvSpPr txBox="1"/>
              <p:nvPr/>
            </p:nvSpPr>
            <p:spPr>
              <a:xfrm>
                <a:off x="4767120" y="5689440"/>
                <a:ext cx="885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8" name="Rectangle 9"/>
          <p:cNvSpPr/>
          <p:nvPr/>
        </p:nvSpPr>
        <p:spPr>
          <a:xfrm>
            <a:off x="958680" y="6035760"/>
            <a:ext cx="14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1"/>
          <p:cNvSpPr/>
          <p:nvPr/>
        </p:nvSpPr>
        <p:spPr>
          <a:xfrm>
            <a:off x="182520" y="1828800"/>
            <a:ext cx="8642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методе се на основу тога да ли се користи стандардни раствор оксидационог или редукционог средства деле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метр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ометр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2716920" y="109692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редокс 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"/>
          <p:cNvSpPr/>
          <p:nvPr/>
        </p:nvSpPr>
        <p:spPr>
          <a:xfrm>
            <a:off x="182520" y="3565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 подела је према стандардном раствору реагенса који се примењује у конкретном случ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44720" y="4389480"/>
            <a:ext cx="6922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перманганата- перманган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дихромата – дихромат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јода – јод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церијума(IV) – цер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бромата – броматометрија и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"/>
          <p:cNvSpPr/>
          <p:nvPr/>
        </p:nvSpPr>
        <p:spPr>
          <a:xfrm>
            <a:off x="182520" y="1628640"/>
            <a:ext cx="82821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титр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трације код којих се појављује исти број електрона у обе једначине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итрације код којих се појављује различит број електрона у једначинама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итрације код којих се у једначинама полуреакције појављују вода и њени јо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итрације код којих један молекул/јон ректаната дајe више молекула/јона производа реакције или обрнут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"/>
          <p:cNvSpPr/>
          <p:nvPr/>
        </p:nvSpPr>
        <p:spPr>
          <a:xfrm>
            <a:off x="1343880" y="1008000"/>
            <a:ext cx="64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равнотеже редокс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5796000" y="1646280"/>
            <a:ext cx="1803240" cy="8157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"/>
          <p:cNvSpPr/>
          <p:nvPr/>
        </p:nvSpPr>
        <p:spPr>
          <a:xfrm>
            <a:off x="457200" y="1828800"/>
            <a:ext cx="408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"/>
          <p:cNvSpPr/>
          <p:nvPr/>
        </p:nvSpPr>
        <p:spPr>
          <a:xfrm>
            <a:off x="248760" y="2560680"/>
            <a:ext cx="46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 је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Object 7"/>
          <p:cNvGraphicFramePr/>
          <p:nvPr/>
        </p:nvGraphicFramePr>
        <p:xfrm>
          <a:off x="3024360" y="2468520"/>
          <a:ext cx="153648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4360" y="2468520"/>
                    <a:ext cx="1536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Box 9"/>
          <p:cNvSpPr/>
          <p:nvPr/>
        </p:nvSpPr>
        <p:spPr>
          <a:xfrm>
            <a:off x="182520" y="3292560"/>
            <a:ext cx="655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равнотежа:         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 може имати само један електродни потенција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14"/>
          <p:cNvGraphicFramePr/>
          <p:nvPr/>
        </p:nvGraphicFramePr>
        <p:xfrm>
          <a:off x="457200" y="4022640"/>
          <a:ext cx="4191120" cy="27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022640"/>
                    <a:ext cx="4191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Picture 15" descr=""/>
          <p:cNvPicPr/>
          <p:nvPr/>
        </p:nvPicPr>
        <p:blipFill>
          <a:blip r:embed="rId6"/>
          <a:stretch/>
        </p:blipFill>
        <p:spPr>
          <a:xfrm>
            <a:off x="8244000" y="6161040"/>
            <a:ext cx="718920" cy="308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6"/>
          <p:cNvSpPr/>
          <p:nvPr/>
        </p:nvSpPr>
        <p:spPr>
          <a:xfrm>
            <a:off x="3115080" y="616104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коефицијенти активитета једнаки једини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"/>
          <p:cNvSpPr/>
          <p:nvPr/>
        </p:nvSpPr>
        <p:spPr>
          <a:xfrm>
            <a:off x="1208160" y="982800"/>
            <a:ext cx="67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истим бројем електрон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обе једначине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201960" y="2028960"/>
            <a:ext cx="427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(II) раствором Ce(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182520" y="265104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у киселој средини, c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 mol/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1371600" y="4114800"/>
            <a:ext cx="372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457200" y="5029200"/>
                <a:ext cx="5680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6400800" y="37893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4"/>
              <p:cNvSpPr txBox="1"/>
              <p:nvPr/>
            </p:nvSpPr>
            <p:spPr>
              <a:xfrm>
                <a:off x="6400800" y="4395960"/>
                <a:ext cx="223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82520" y="3040200"/>
            <a:ext cx="8642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неиститрован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а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, као и врло ма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Object 7"/>
          <p:cNvGraphicFramePr/>
          <p:nvPr/>
        </p:nvGraphicFramePr>
        <p:xfrm>
          <a:off x="1371600" y="4983120"/>
          <a:ext cx="44578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983120"/>
                    <a:ext cx="4457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Rectangle 7"/>
          <p:cNvSpPr/>
          <p:nvPr/>
        </p:nvSpPr>
        <p:spPr>
          <a:xfrm>
            <a:off x="182520" y="1455840"/>
            <a:ext cx="87091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сам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, али раствор садржи и малу, непознату концентраци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ксидација ваздушним кисеоником) - електродни потенцијал се не може израчунати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1371600" y="446868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"/>
          <p:cNvSpPr/>
          <p:nvPr/>
        </p:nvSpPr>
        <p:spPr>
          <a:xfrm>
            <a:off x="182520" y="107964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до ТЕ је погодније израчунати, помоћ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 на основ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додатог реаген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"/>
          <p:cNvSpPr/>
          <p:nvPr/>
        </p:nvSpPr>
        <p:spPr>
          <a:xfrm>
            <a:off x="182520" y="234792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4"/>
          <p:cNvGraphicFramePr/>
          <p:nvPr/>
        </p:nvGraphicFramePr>
        <p:xfrm>
          <a:off x="182520" y="3137040"/>
          <a:ext cx="727236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137040"/>
                    <a:ext cx="72723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6"/>
          <p:cNvGraphicFramePr/>
          <p:nvPr/>
        </p:nvGraphicFramePr>
        <p:xfrm>
          <a:off x="182520" y="4510080"/>
          <a:ext cx="88678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4510080"/>
                    <a:ext cx="8867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7"/>
          <p:cNvGraphicFramePr/>
          <p:nvPr/>
        </p:nvGraphicFramePr>
        <p:xfrm>
          <a:off x="1371600" y="5683320"/>
          <a:ext cx="57103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683320"/>
                    <a:ext cx="5710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2"/>
          <p:cNvSpPr/>
          <p:nvPr/>
        </p:nvSpPr>
        <p:spPr>
          <a:xfrm>
            <a:off x="182520" y="12668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182520" y="1920960"/>
                <a:ext cx="63961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6"/>
              <p:cNvSpPr txBox="1"/>
              <p:nvPr/>
            </p:nvSpPr>
            <p:spPr>
              <a:xfrm>
                <a:off x="182520" y="3200400"/>
                <a:ext cx="8942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 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1371600" y="4297320"/>
                <a:ext cx="5538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TextBox 5"/>
          <p:cNvSpPr/>
          <p:nvPr/>
        </p:nvSpPr>
        <p:spPr>
          <a:xfrm>
            <a:off x="302400" y="5486400"/>
            <a:ext cx="852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титрованог редокс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случају стандардном 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0:47:46Z</dcterms:created>
  <dc:creator>Korisnik</dc:creator>
  <dc:description/>
  <dc:language>en-US</dc:language>
  <cp:lastModifiedBy>korisnik</cp:lastModifiedBy>
  <dcterms:modified xsi:type="dcterms:W3CDTF">2017-12-01T12:47:09Z</dcterms:modified>
  <cp:revision>517</cp:revision>
  <dc:subject/>
  <dc:title>Slide 1</dc:title>
</cp:coreProperties>
</file>